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C94-979E-47E7-B3C6-550EAD4E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1C5-44BD-4A11-BC88-0BA057CC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8B4-491B-4446-8C89-AE815157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96B-D2FF-4B88-8DC8-76E286F4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4C0-9454-4DA9-A892-1E6A3289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8BD-AC6A-4BEE-8588-E278004A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F0E-3A13-43A2-AC6C-0A2E8F5D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FD7-4B30-4538-9516-770F3CFA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548-D386-4009-9AD2-FED70592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3A9-5C89-4E01-9CB7-F493785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541-C68F-4FEB-B1A4-12803FAE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5AE-98A1-4882-9BDC-3883909C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F8F0-FE6E-4BF4-8649-0ABCD26B6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4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57200"/>
            <a:ext cx="8076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organized his men into _______ groups.  The commanders appointed were __________, ________________, and 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fference of opinion was there between David and his men about the upcoming bat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mand issued by David as his soldiers departed w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ews did one of the men bring to Joab about Absal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457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838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2193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shai, Joab’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tai, the Gitt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743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ther or not David himself would go into battle with the ar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41911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al gently for my sake with the young man, even with Absalo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alom was hanging in an oak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4572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How did Absalom d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Why did Joab not want Ahimaaz to carry news to David of the army’s victory over Absalom’s fo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David’s first question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What was David’s sad, mournful lament when he realized Absalom was d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Why did Joab rebuke his 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9144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ab took 3 darts and thrust them into Absalom’s heart.  Then, 10 of his men beat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5053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young man Absalom sa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3623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did not want David to learn that Absalom was dead from Ahima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uld God I had died for thee, O Absalom, my son, my son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0199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was mourning over Absalom. The men risked their life against an enemy to David.  It made the men ashamed as if they had lost the ba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0"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hange did David make in his demean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as there strife and turmoil in the kingdom 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question did David address to the men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it surprising to learn that David asked Amas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captain of his host and not Joa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9144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arose, sat at the gate, and greeted his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24382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had fled, Absalom was dead, people were in limbo and the king was not retu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61722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Amasa was captain of Absalom’s ar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1911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are you not bringing me back to Jerusalem.  All of Israel is talking, but you are my kin and doing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457200"/>
            <a:ext cx="784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. What makes it surprising to find Shimei among th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elcomed David home so profus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. How did Mephibosheth explain to David why he ha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gone with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. David urged his loyal helper, ___________, to go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usalem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. Why did he decline this invi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rzill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6386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as old, hard of hearing, and not eating well.  It would be a waste and a burden to David for him to go.  He asked if his son could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1240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he was lame, his servant, Ziba, had left him.  Then he  went and slandered his name to Dav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2952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imei had cursed David.  Now he apologized and helped David cross the river.  This was all he could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zoom dir="in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4:21:21Z</dcterms:created>
  <dc:creator>Frank D Vines</dc:creator>
  <dc:description/>
  <dc:language>en-US</dc:language>
  <cp:lastModifiedBy>Frank D Vines</cp:lastModifiedBy>
  <dcterms:modified xsi:type="dcterms:W3CDTF">2005-07-09T03:28:36Z</dcterms:modified>
  <cp:revision>5</cp:revision>
  <dc:subject/>
  <dc:title>Questions and Answers</dc:title>
</cp:coreProperties>
</file>